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F5F55-05E7-4852-AA28-4BD8CC3C6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C9D08-717A-4DAB-B689-3C0F49E0AE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503E4-B7A6-4A24-980F-77B2CF029C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E408A-4B4A-4041-8017-E12FDF5B2A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07752-B839-4A2F-8E16-9054CCB63B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0A15C-2952-4B92-8FD9-851BD9E9C9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91025-AD4C-4690-AE1A-A65E12312C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11277-50FD-4A0C-9DBA-4F0973417C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BA46D-DD95-46CE-B474-733E7E3F17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EF441-3440-483E-9F0E-8375B8ACCA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F7576-87A9-48A6-9E64-778E57F8DD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E2FCB-E2EA-4522-ACB1-E522BB0727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E10C8-7D24-42D0-8ABE-F10CC0C0E4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45AA1-CF98-4E10-AAD7-21E0F419A2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E32BA-210F-4386-8EF0-1C97E775FD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2AEB0-DBF7-4C9B-B048-C30641D7BB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CB1AE-E28F-4C63-9C63-DA13918FAA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4EDEE-38D0-4A17-9BEF-C0B3C63421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2C8CE-384A-44BC-AD5F-7413B7726A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AF8B4-2396-4CAB-9FCE-9CEF1BD5C6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8B2DA-8CD4-44A0-BCD2-B317DF0741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AD3-045C-437D-BD58-03BC63FD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8B8-157E-4689-A0B0-BCD1025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06C-FB65-46D3-8DAC-D748D1A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BA2-78CF-43A0-91A1-A5FC552A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AED63-36AF-4845-B8C7-92FB0A6E0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6B001-0B3B-4AC4-8A81-E9C348F3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8EFA8-CBA6-49D5-8ED9-EA58F50F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4B48-0E91-4E6D-9CC1-15D7B1C5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98167-EB6A-4BE4-A3AC-F1560734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C35FE-F2B3-4E49-B5B7-735B31B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4DD84-EFC7-4809-8794-8E47E8F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47E-AA2A-4E50-9024-080ECDEA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0A85-D060-48B1-A3C9-C8D63618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A580E-F706-4EDC-A0B1-6ADD4A0E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8AE4C-771C-4D9A-9E96-37A9C6E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BA8FD-0CD7-4B70-B11C-F04ECBBA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C04B4-C9AF-421A-9971-234693402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FC7-0626-47A3-9D9D-72E8FE5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FDA-D5C6-41D5-897B-E3123FD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3FA-6A64-418D-BBF3-AED4C8A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08C-8C34-439B-A3D4-8327BDB3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4DF-7349-40E1-A0F5-E2FC25C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AC1-0AC0-401C-B0A4-869D7732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770-154C-4005-B491-D2BA918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CCF3F-B510-4A5F-8D2F-ED4D454D97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65959-3865-4EA3-92F8-86303AB6F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pact of the Intern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to inform Americans about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et is purposive—people choose what to learn ab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Americans are generally disinterested in politics, they will not necessarily use the Internet for political inform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ogs provide additional information about news stor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Control of the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ly a small number of TV stations are publicly owned in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in what they can report, media are totally dependent on advertising revenu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ins: massive media conglomerates that account for over four-fifths of the natio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daily newspaper circ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 control broadcast med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ing the Ne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ats: specific locations from which news frequently emanates, such as Congress or the White Ho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l Balloons: an intentional news leak for the purpose of assessing the political re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orters and their sources depend on each other—one for stories, the other to get them ou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685800" y="1523880"/>
            <a:ext cx="7772400" cy="4865760"/>
            <a:chOff x="685800" y="1523880"/>
            <a:chExt cx="7772400" cy="4865760"/>
          </a:xfrm>
        </p:grpSpPr>
        <p:pic>
          <p:nvPicPr>
            <p:cNvPr id="116" name="Picture 14" descr=""/>
            <p:cNvPicPr/>
            <p:nvPr/>
          </p:nvPicPr>
          <p:blipFill>
            <a:blip r:embed="rId1"/>
            <a:stretch/>
          </p:blipFill>
          <p:spPr>
            <a:xfrm>
              <a:off x="685800" y="1523880"/>
              <a:ext cx="777240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2"/>
            <a:stretch/>
          </p:blipFill>
          <p:spPr>
            <a:xfrm>
              <a:off x="685800" y="2133720"/>
              <a:ext cx="7772400" cy="4255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enting the New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uperfic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describes most news coverage toda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und Bites: short video clips of approximately 10 secon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jor TV networks devote less time to covering political candid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71629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as in the Ne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eople believe the news is biased in favor of one point of vie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nerally is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very biased toward a particular ide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 reporting is biased towards what will draw the largest audience—good pictures and negative repor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porting the N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1676520" y="1523880"/>
            <a:ext cx="5790960" cy="4832640"/>
            <a:chOff x="1676520" y="1523880"/>
            <a:chExt cx="5790960" cy="4832640"/>
          </a:xfrm>
        </p:grpSpPr>
        <p:pic>
          <p:nvPicPr>
            <p:cNvPr id="125" name="Picture 11" descr=""/>
            <p:cNvPicPr/>
            <p:nvPr/>
          </p:nvPicPr>
          <p:blipFill>
            <a:blip r:embed="rId1"/>
            <a:stretch/>
          </p:blipFill>
          <p:spPr>
            <a:xfrm>
              <a:off x="1676520" y="1523880"/>
              <a:ext cx="579096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2" descr=""/>
            <p:cNvPicPr/>
            <p:nvPr/>
          </p:nvPicPr>
          <p:blipFill>
            <a:blip r:embed="rId2"/>
            <a:stretch/>
          </p:blipFill>
          <p:spPr>
            <a:xfrm>
              <a:off x="1676520" y="1981080"/>
              <a:ext cx="5790960" cy="4375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News and Public Opin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evision news can affect what people think is impor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enda-setting eff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 influence the criteria by which the public evaluates political lea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stories or events can be made more important, others less important, depending on their covera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 Agenda-Setting Func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cy Agen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ssues that attract the serious attention of public officials and other people actively involved in politics at th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cy Entrepreneu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who invest their political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ita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 an issue to get it placed high on governmental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media to raise awareness of iss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the Mass Med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 and the Scope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a as watchdog restricts politicia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 proposals are met with skepticism which restricts scope of government, what it can d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media identifies a problem, it forces government to address it, which expands the scope of 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057400" y="6477120"/>
            <a:ext cx="685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09 Pearson Education, Inc. Publishing as Long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ass Media and the Political 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200400" y="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Edwards, Wattenberg, and Lineberr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Government in America: People, Politics, and Polic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Fourteenth Edi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the Mass Med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ism and the Med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idates run on their own by appealing to people on televi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sier to focus on one person like the president, than groups, e.g., Congress or the cou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cracy and the Med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is the fuel of democracy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t news provides more entertainment than information; it is superfic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 is a business, giving people what they wa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 shape public opinion on political issues and influence policy agend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oadcast media have replaced print media over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rrowcasting and the Internet are further shifting med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eking profits, media are biased in favor of stories with high dram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ss Med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levision, radio, newspapers, magazines, the Internet and other means of popular communi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-Tech Politic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olitics in which the behavior of citizens and policymakers and the political agenda itself are increasingly shaped by techn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ss Media Tod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communication through media is key to political suc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a Events: events purposely staged for the media that nonetheless look spontaneou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a events can be staged by almost anybod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age making and news management is important, especially for president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news media was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 always so importa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s Conferences: meetings of public officials with repor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anklin Roosevelt held over 1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estigative Journalism: the use of in-depth reporting to unearth scandals, scams &amp; schemes putting reporters &amp; politicians opposite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verage of presidential candidates has become less favorab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int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papers and magazi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ellow journalism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a sensational style of reporting characterized newspapers at the turn of the centur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cking order among newspa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ew York Time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largest imp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wspaper and newsweekly circulation has declin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roadcast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levision and radi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ought government and politics into people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hom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etnam W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tici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ppearances and mannerisms more importa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nnedy-Nixon presidential deb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 Regulation of the Broadcast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ederal Communications Commission (FCC) regulates the use of airwaves in three way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vent near monopoly control of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iews performance of st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sues fair treatment rules for politicia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evelopment of Media 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om Broadcasting to Narrowcasting: The Rise of Cable News Chann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rrowcasting: media programming on cable TV or Internet that is focused on one topic and aimed at a particular audience, e.g., C-SP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of cable to report on news as it happens and offer myriad cho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et resources are limited and stories are not substan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4:40:13Z</dcterms:created>
  <dc:creator>madisonk Madison</dc:creator>
  <dc:description/>
  <dc:language>en-US</dc:language>
  <cp:lastModifiedBy>madisonk Madison</cp:lastModifiedBy>
  <dcterms:modified xsi:type="dcterms:W3CDTF">2014-10-15T14:40:50Z</dcterms:modified>
  <cp:revision>1</cp:revision>
  <dc:subject/>
  <dc:title>PowerPoint Presentation</dc:title>
</cp:coreProperties>
</file>